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07920" y="739440"/>
            <a:ext cx="491040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69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05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9328E-C15E-42E7-A956-1A167C9984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7920" y="739800"/>
            <a:ext cx="4913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7920" y="739800"/>
            <a:ext cx="4913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7920" y="739800"/>
            <a:ext cx="4915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7920" y="739800"/>
            <a:ext cx="491832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78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6CF-EFF5-4EBF-AD33-C0A8DF2B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E98-8BCF-4C28-BAAF-22D8343A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AEC-0ECB-45C8-83E8-5FB7D38A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9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9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B44-2640-4FC6-AA93-9050653B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1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E4B-F2C2-441A-AC3B-7211BA3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16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9840" y="114264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16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9840" y="3847680"/>
            <a:ext cx="26438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857-353C-4C57-B193-B09CCB4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F44-9605-422A-9297-3FE2A89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BAA-B06A-407A-BA55-200FFCD3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1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3DA-7866-43B0-B16A-CF47FFA9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BE4-CED8-4E42-9DFC-54276C1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384768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AE3-859C-4860-86F8-172EF57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071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196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E2D-F6C4-46E8-A240-F58FB16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1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19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1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066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34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880"/>
            <a:ext cx="897120" cy="2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A5D7F28E-590C-4760-A62F-128B46103916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54760" cy="19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4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Dynamic scheduling of the e-EVN: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Utah MT"/>
              </a:rPr>
              <a:t>a progress re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152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nclusions and 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152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ll components now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 participation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 similar process could fetch GPS data for clock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ork is also progressing on real-time monitor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ibration using station temperatures is also possib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6BE-A547-412F-9DDC-A41FF60E98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 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6" idx="3"/>
            <a:endCxn id="147" idx="1"/>
          </p:cNvCxnSpPr>
          <p:nvPr/>
        </p:nvCxnSpPr>
        <p:spPr>
          <a:xfrm>
            <a:off x="2971440" y="240048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"/>
          <p:cNvCxnSpPr>
            <a:stCxn id="147" idx="2"/>
            <a:endCxn id="149" idx="0"/>
          </p:cNvCxnSpPr>
          <p:nvPr/>
        </p:nvCxnSpPr>
        <p:spPr>
          <a:xfrm>
            <a:off x="6286680" y="2743200"/>
            <a:ext cx="2160" cy="1829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0" name=""/>
          <p:cNvCxnSpPr>
            <a:stCxn id="146" idx="2"/>
            <a:endCxn id="151" idx="0"/>
          </p:cNvCxnSpPr>
          <p:nvPr/>
        </p:nvCxnSpPr>
        <p:spPr>
          <a:xfrm>
            <a:off x="2171880" y="2743200"/>
            <a:ext cx="2160" cy="1829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2" name=""/>
          <p:cNvCxnSpPr>
            <a:stCxn id="151" idx="3"/>
            <a:endCxn id="149" idx="1"/>
          </p:cNvCxnSpPr>
          <p:nvPr/>
        </p:nvCxnSpPr>
        <p:spPr>
          <a:xfrm>
            <a:off x="2971440" y="491508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371600" y="20574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5720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-fi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st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5720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-fi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572000"/>
            <a:ext cx="536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057400"/>
            <a:ext cx="536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657600"/>
            <a:ext cx="763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3768840"/>
            <a:ext cx="91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05740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t st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3FE-BDD4-4A47-851C-C3A5D458AE8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Batch” mode schedu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7D3-4F83-49E7-A68C-5599330E99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06F-9D1E-4904-9142-6F03CD026C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152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152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pagate new schedule to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and inject new schedule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Charter"/>
              </a:rPr>
              <a:t>(New!)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Historically-accurate vex file for correlator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B40-A169-49A5-B075-DC7B63FF5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72200" y="1600200"/>
            <a:ext cx="20574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828800"/>
            <a:ext cx="502920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ynamic scheduling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057400"/>
            <a:ext cx="1600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05740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073320"/>
            <a:ext cx="1374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chedule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13" name=""/>
          <p:cNvCxnSpPr>
            <a:stCxn id="110" idx="3"/>
            <a:endCxn id="111" idx="1"/>
          </p:cNvCxnSpPr>
          <p:nvPr/>
        </p:nvCxnSpPr>
        <p:spPr>
          <a:xfrm>
            <a:off x="1828800" y="223524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4" name=""/>
          <p:cNvCxnSpPr>
            <a:stCxn id="111" idx="3"/>
            <a:endCxn id="115" idx="1"/>
          </p:cNvCxnSpPr>
          <p:nvPr/>
        </p:nvCxnSpPr>
        <p:spPr>
          <a:xfrm>
            <a:off x="3200400" y="2235240"/>
            <a:ext cx="915120" cy="2160"/>
          </a:xfrm>
          <a:prstGeom prst="curvedConnector5">
            <a:avLst>
              <a:gd name="adj1" fmla="val 49980"/>
              <a:gd name="adj2" fmla="val 40000"/>
              <a:gd name="adj3" fmla="val 4998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6" name=""/>
          <p:cNvCxnSpPr>
            <a:stCxn id="112" idx="3"/>
            <a:endCxn id="115" idx="1"/>
          </p:cNvCxnSpPr>
          <p:nvPr/>
        </p:nvCxnSpPr>
        <p:spPr>
          <a:xfrm flipV="1">
            <a:off x="2746080" y="2234880"/>
            <a:ext cx="1369080" cy="10166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114800" y="205740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1701720"/>
            <a:ext cx="914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x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18" name=""/>
          <p:cNvCxnSpPr>
            <a:stCxn id="115" idx="3"/>
            <a:endCxn id="117" idx="1"/>
          </p:cNvCxnSpPr>
          <p:nvPr/>
        </p:nvCxnSpPr>
        <p:spPr>
          <a:xfrm flipV="1">
            <a:off x="5029200" y="1879200"/>
            <a:ext cx="1829520" cy="3564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19" name=""/>
          <p:cNvCxnSpPr>
            <a:stCxn id="117" idx="2"/>
            <a:endCxn id="120" idx="0"/>
          </p:cNvCxnSpPr>
          <p:nvPr/>
        </p:nvCxnSpPr>
        <p:spPr>
          <a:xfrm flipH="1">
            <a:off x="7306920" y="2057040"/>
            <a:ext cx="7200" cy="686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858000" y="2743200"/>
            <a:ext cx="900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nap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21" name=""/>
          <p:cNvCxnSpPr>
            <a:stCxn id="120" idx="2"/>
            <a:endCxn id="122" idx="0"/>
          </p:cNvCxnSpPr>
          <p:nvPr/>
        </p:nvCxnSpPr>
        <p:spPr>
          <a:xfrm>
            <a:off x="7307280" y="3098520"/>
            <a:ext cx="123120" cy="889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629400" y="3987720"/>
            <a:ext cx="1600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898640" y="1371600"/>
            <a:ext cx="617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JIV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1244520"/>
            <a:ext cx="1143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828800"/>
            <a:ext cx="88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log2vex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2674800"/>
            <a:ext cx="1074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vexmerge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1760400"/>
            <a:ext cx="569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scp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217600"/>
            <a:ext cx="704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drudg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360600"/>
            <a:ext cx="1600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inject_snap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30" name=""/>
          <p:cNvCxnSpPr>
            <a:stCxn id="122" idx="1"/>
            <a:endCxn id="131" idx="3"/>
          </p:cNvCxnSpPr>
          <p:nvPr/>
        </p:nvCxnSpPr>
        <p:spPr>
          <a:xfrm flipH="1">
            <a:off x="3887280" y="4165200"/>
            <a:ext cx="2742480" cy="585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5" idx="2"/>
            <a:endCxn id="131" idx="0"/>
          </p:cNvCxnSpPr>
          <p:nvPr/>
        </p:nvCxnSpPr>
        <p:spPr>
          <a:xfrm flipH="1">
            <a:off x="3217320" y="2412720"/>
            <a:ext cx="1354680" cy="21596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548080" y="4572000"/>
            <a:ext cx="133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rrelator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89640" y="4121280"/>
            <a:ext cx="1547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eVLBI networks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E2-9E93-4D45-BEAB-ED6874D939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69800"/>
            <a:ext cx="8217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log2ve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170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urns schedule 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skd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) files into vex 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vix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) fi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Adds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$CLOCK, $TAPELOG_OBS, $EOP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block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$CLOCK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 block based on station GPS data for batch VLBI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lock-searching is used instead for eVLBI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uns at JIVE; written in Per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2ED-3724-43EA-BCEF-A0977A319C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exmer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Merges original vex file and new schedu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duces updated historically-accurate vex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uns at JIVE; 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CA6-48B5-4A9E-9CBA-25E8867CD3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ield System 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rudge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: vex file </a:t>
            </a:r>
            <a:r>
              <a:rPr b="0" lang="en-GB" sz="2400" spc="-1" strike="noStrike">
                <a:solidFill>
                  <a:srgbClr val="000000"/>
                </a:solidFill>
                <a:latin typeface="Dingbats"/>
                <a:ea typeface="Dingbats"/>
              </a:rPr>
              <a:t>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 snap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  <a:ea typeface="Dingbats"/>
              </a:rPr>
              <a:t>inject_snap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: stops/starts use of snap fil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FS commands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run from JIVE scrip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use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  <a:ea typeface="Dingbats"/>
              </a:rPr>
              <a:t>ssh</a:t>
            </a: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 in single-command mode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9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  <a:ea typeface="Dingbats"/>
              </a:rPr>
              <a:t>no login session on FS computer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B88-E8AB-4418-99E5-F66C9F2AC0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se stud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Thursday, 28 August 2008 eVLBI sessi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ources: DA193, 4C39.25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Stations: Torun, Westerbork (single-dish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9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ringes obtained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N-TOG, Bolog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C39-ADBF-4937-8AC6-57BF479A2F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9-22 (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